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EB88-B4DB-4EEA-957E-2A147164D3D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DDC4-A188-4C8C-8C3F-01034AE1B8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034-4B83-49F6-9FFB-02EDA147E7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3920-8DB7-4D51-AA4B-ABCC2AF701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AEE6-3CF2-41E4-A468-DC102F23C2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880-C28C-4EC9-B3B0-8C6F3CC686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D1A-4DD9-40F4-9D13-371FD1776D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431C-4E2A-481D-8218-0A4D5A329B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弟弟在上网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인터넷을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w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妹妹在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画画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림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à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画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喜欢</a:t>
            </a:r>
            <a:r>
              <a:rPr b="1" lang="zh-CN" sz="6000" spc="-1" strike="noStrike">
                <a:solidFill>
                  <a:srgbClr val="000000"/>
                </a:solidFill>
                <a:latin typeface="SimSun"/>
                <a:ea typeface="SimSun"/>
              </a:rPr>
              <a:t>画画儿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à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天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今天天气怎么样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날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ānq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很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춥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ě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首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首尔太</a:t>
            </a:r>
            <a:r>
              <a:rPr b="1" lang="zh-CN" sz="64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서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ǒu'ě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昨天下雨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내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北京在下雪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小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小心别感冒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심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oxī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别去了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지 마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i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感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小心别感冒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감기에 걸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gǎnmào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弟弟在踢球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하는 중이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时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0" y="507096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什么时候回家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때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ího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回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爸爸回来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돌아오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íla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暖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天气很暖和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따뜻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uǎnhu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凉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天气很凉快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서늘하다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시원하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ángkua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刮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外面在刮风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람이 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ā fē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213840" y="5054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明天下雨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비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出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出去玩儿吧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ūq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太贵了，别买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聊天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213840" y="5071320"/>
            <a:ext cx="66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在聊天儿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이야기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áotiā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玩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哥哥在玩儿电脑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wá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在写什么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教我电脑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컴퓨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n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游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142560" y="5138280"/>
            <a:ext cx="6715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喜欢电脑游戏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게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yóux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鼠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是鼠标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우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ǔbiā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电子邮件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100480"/>
            <a:ext cx="627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在写电子邮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전자우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6176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diànzǐ yóujiàn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难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컴퓨터를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汉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打汉字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213840" y="63669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한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nz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难不难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렵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简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很简单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간단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ǎnd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报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爸爸在看报纸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신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àoz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6:29:47Z</dcterms:modified>
  <cp:revision>314</cp:revision>
  <dc:subject/>
  <dc:title>슬라이드 1</dc:title>
</cp:coreProperties>
</file>